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0BE-DB3F-4991-B465-9DEFCBDF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BE8-1C53-49F2-A405-71E8B3FC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932-6021-40F8-B7EE-8F3294DB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E9D-B32C-4600-8AD6-AD92FB01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0AB-D7C8-4CC3-AEA6-8744F201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2BC-3B26-41B2-A551-11778C45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32A-D443-4354-B85D-260FE573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C5E-0A85-4318-9CA1-0F844165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69A-96BA-4BBE-83E0-4F388215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881-0172-497B-BAB3-0FA4E9C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8D4-6A07-4256-B82C-7F5B8459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D49-8821-4A6E-8B9A-69BE360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080-95A3-45BB-A43F-545ACB167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ek 1 – Lab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 months from now, the Grand Cineplex Odeon II is opening in downtown Calgary. It will sport a multilevel parking garage free for movie-goers, enhanced online ticket purchasing, more combos of soda and popcorn, and make a larger dent in your monthly bank statement. They have started the planning for their system infrastructure and part of this involves developing a use case diagram for their syste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cto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ustomers (Movie-goer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cket Salespers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ager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use cases do we ha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rchase tickets (onlin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int ticke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ck status of movie (sold out, x% full, etc..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heck available seating (which seats, or if it's a "free-for-all"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serve seating (if possibl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t parking entrance receipt (by authenticating their ticket, they can enter the parking garage 15 minutes before, and park till 15 minutes after their movi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y for parking (if they went in earlier or stayed too lat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456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name of the us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brief description of the use ca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ctors participating in the use ca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ctors that may particip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What needs to exist for this use case to 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Steps done in this us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What should happen by the end of this use case to verify that it is done in a correct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 possible alternative flow for the use case (e.g. an error happe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456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rchase Ticke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rchase tickets for a movi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ustomer, Sal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ana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not sold ou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play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logs into online syst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selects movie theat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selects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pays for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has a ticket ID and/or printed out ticket for a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-Theatre Purcha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lesperson or Manager verifies available tickets for a playing mov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et payment and processes 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heck Movie Statu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eturns the movie status (tickets left, playing times, etc..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ustomer, Sal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nag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vie exi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 the number of available seats, movie times, etc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to us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 Case Descri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serve Seat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serves seat(s) for a given mov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ary Acto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ustomers, Sa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ary Acto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nag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condi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ie exis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cket purchased for mov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 Flow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to see if the seat is availab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rve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a new ticket if this is done in-theatre, otherwise update the e-ticket numb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stcondi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osen seat is no longer availabl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ternative Flow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ie does NOT allow reserved sea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n error message to us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use case diagram for a shipping company such as UPS or FedEx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arrange for a pickup of a package to be deliv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check the status of a package, assuming there is a tracking number for 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 must be able to refuse a pack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people must be able to determine the next address to deliver a package to, and get directions for 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people must be able to confirm a package has been delivered, and store the signature of the sign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nt staff must be able to accept new packages to be shipped, as well as charge custom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ditors must be able to look at past parcel sending history for a particular location or custom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19:31Z</dcterms:created>
  <dc:creator>Soha</dc:creator>
  <dc:description/>
  <dc:language>en-US</dc:language>
  <cp:lastModifiedBy>Soha</cp:lastModifiedBy>
  <dcterms:modified xsi:type="dcterms:W3CDTF">2009-04-07T09:27:48Z</dcterms:modified>
  <cp:revision>3</cp:revision>
  <dc:subject/>
  <dc:title>Slide 1</dc:title>
</cp:coreProperties>
</file>